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B11-DE97-40A7-AB81-728E32D8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867-CAEF-4CE2-8B12-AAF9155E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33B-5C5F-4E08-8CCE-BBC4236E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72B-EBD4-4DD2-8D85-3E780344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7F0-FE85-41B3-A483-BD01D6CD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099-34AF-46EC-B0F8-2E4BCD0B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3F1-C56A-4395-AD5F-8E195DB8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53D-57AB-4562-A167-E531D010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527-93FE-4243-B148-1A1D4DD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D8B3-0D5E-472A-932E-C0F7E50A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BCA-DE6B-433F-961C-1C522B03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39B-98D1-4E4B-A8A3-3F7FE1D6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F059-3E6C-4641-B22A-CAE4050AC8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Интегрированный урок: география и матема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Учитель географии Носова Н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Учитель математики Шеина Н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БОУ «Оборонинская СОШ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. Мордо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835280" y="2133720"/>
            <a:ext cx="5976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имат своей местности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1547640" y="476280"/>
            <a:ext cx="5981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торяемость направления ветра (год, дни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700280"/>
          <a:ext cx="8002440" cy="2016000"/>
        </p:xfrm>
        <a:graphic>
          <a:graphicData uri="http://schemas.openxmlformats.org/drawingml/2006/table">
            <a:tbl>
              <a:tblPr/>
              <a:tblGrid>
                <a:gridCol w="1163520"/>
                <a:gridCol w="777960"/>
                <a:gridCol w="730080"/>
                <a:gridCol w="884520"/>
                <a:gridCol w="890640"/>
                <a:gridCol w="887400"/>
                <a:gridCol w="892080"/>
                <a:gridCol w="887400"/>
                <a:gridCol w="88884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апра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вет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С-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Ю-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Ю-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С-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0,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3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3,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1708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 rot="21078600">
            <a:off x="2268000" y="2133720"/>
            <a:ext cx="44643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Что такое клима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В каком тепловом поясе находится наша облас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Почему на территории Тамбовской области четко различаются все 4 сезона год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Назовите основные климатические показате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059280" y="189000"/>
            <a:ext cx="2097000" cy="10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ин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6" descr="tu4a"/>
          <p:cNvPicPr/>
          <p:nvPr/>
        </p:nvPicPr>
        <p:blipFill>
          <a:blip r:embed="rId1"/>
          <a:stretch/>
        </p:blipFill>
        <p:spPr>
          <a:xfrm>
            <a:off x="5867280" y="11592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sun_tu4a"/>
          <p:cNvPicPr/>
          <p:nvPr/>
        </p:nvPicPr>
        <p:blipFill>
          <a:blip r:embed="rId2"/>
          <a:stretch/>
        </p:blipFill>
        <p:spPr>
          <a:xfrm>
            <a:off x="108000" y="4659480"/>
            <a:ext cx="266364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1844640"/>
          <a:ext cx="8569080" cy="1800360"/>
        </p:xfrm>
        <a:graphic>
          <a:graphicData uri="http://schemas.openxmlformats.org/drawingml/2006/table">
            <a:tbl>
              <a:tblPr/>
              <a:tblGrid>
                <a:gridCol w="863280"/>
                <a:gridCol w="576360"/>
                <a:gridCol w="540000"/>
                <a:gridCol w="657000"/>
                <a:gridCol w="658800"/>
                <a:gridCol w="658800"/>
                <a:gridCol w="660600"/>
                <a:gridCol w="658800"/>
                <a:gridCol w="658800"/>
                <a:gridCol w="657000"/>
                <a:gridCol w="660600"/>
                <a:gridCol w="660240"/>
                <a:gridCol w="658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Темпе-ра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WordArt 65"/>
          <p:cNvSpPr txBox="1"/>
          <p:nvPr/>
        </p:nvSpPr>
        <p:spPr>
          <a:xfrm>
            <a:off x="1763640" y="549360"/>
            <a:ext cx="5610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ние месячные температуры воздух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763640" y="549360"/>
            <a:ext cx="5610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ние месячные температуры воздух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773360"/>
          <a:ext cx="8648640" cy="1915920"/>
        </p:xfrm>
        <a:graphic>
          <a:graphicData uri="http://schemas.openxmlformats.org/drawingml/2006/table">
            <a:tbl>
              <a:tblPr/>
              <a:tblGrid>
                <a:gridCol w="865080"/>
                <a:gridCol w="647640"/>
                <a:gridCol w="654120"/>
                <a:gridCol w="569880"/>
                <a:gridCol w="593640"/>
                <a:gridCol w="663840"/>
                <a:gridCol w="666720"/>
                <a:gridCol w="663480"/>
                <a:gridCol w="663480"/>
                <a:gridCol w="666720"/>
                <a:gridCol w="663840"/>
                <a:gridCol w="666720"/>
                <a:gridCol w="6634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темпера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1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5,8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1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2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-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99128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403280" y="333360"/>
            <a:ext cx="597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нее месячное количество осадков в м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1628640"/>
          <a:ext cx="8229600" cy="2737080"/>
        </p:xfrm>
        <a:graphic>
          <a:graphicData uri="http://schemas.openxmlformats.org/drawingml/2006/table">
            <a:tbl>
              <a:tblPr/>
              <a:tblGrid>
                <a:gridCol w="828720"/>
                <a:gridCol w="554040"/>
                <a:gridCol w="519120"/>
                <a:gridCol w="630360"/>
                <a:gridCol w="633240"/>
                <a:gridCol w="631800"/>
                <a:gridCol w="635040"/>
                <a:gridCol w="631800"/>
                <a:gridCol w="633600"/>
                <a:gridCol w="630000"/>
                <a:gridCol w="635040"/>
                <a:gridCol w="633600"/>
                <a:gridCol w="633240"/>
              </a:tblGrid>
              <a:tr h="14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осад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403280" y="333360"/>
            <a:ext cx="597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реднее месячное количество осадков в м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916280"/>
          <a:ext cx="8229600" cy="2449440"/>
        </p:xfrm>
        <a:graphic>
          <a:graphicData uri="http://schemas.openxmlformats.org/drawingml/2006/table">
            <a:tbl>
              <a:tblPr/>
              <a:tblGrid>
                <a:gridCol w="828720"/>
                <a:gridCol w="554040"/>
                <a:gridCol w="519120"/>
                <a:gridCol w="630360"/>
                <a:gridCol w="633240"/>
                <a:gridCol w="631800"/>
                <a:gridCol w="635040"/>
                <a:gridCol w="631800"/>
                <a:gridCol w="633240"/>
                <a:gridCol w="630360"/>
                <a:gridCol w="635040"/>
                <a:gridCol w="633600"/>
                <a:gridCol w="633240"/>
              </a:tblGrid>
              <a:tr h="12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I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X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осад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214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8360" y="1989000"/>
          <a:ext cx="8229600" cy="2141640"/>
        </p:xfrm>
        <a:graphic>
          <a:graphicData uri="http://schemas.openxmlformats.org/drawingml/2006/table">
            <a:tbl>
              <a:tblPr/>
              <a:tblGrid>
                <a:gridCol w="1197000"/>
                <a:gridCol w="799920"/>
                <a:gridCol w="750960"/>
                <a:gridCol w="909720"/>
                <a:gridCol w="914400"/>
                <a:gridCol w="912600"/>
                <a:gridCol w="917640"/>
                <a:gridCol w="912960"/>
                <a:gridCol w="9144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Напра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вет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С-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Ю-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Ю-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С-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WordArt 40"/>
          <p:cNvSpPr txBox="1"/>
          <p:nvPr/>
        </p:nvSpPr>
        <p:spPr>
          <a:xfrm>
            <a:off x="1476360" y="692280"/>
            <a:ext cx="5981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торяемость направления ветра (год, дни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6:11:32Z</dcterms:created>
  <dc:creator>Admin</dc:creator>
  <dc:description/>
  <dc:language>en-US</dc:language>
  <cp:lastModifiedBy>w8</cp:lastModifiedBy>
  <dcterms:modified xsi:type="dcterms:W3CDTF">2020-02-02T14:53:37Z</dcterms:modified>
  <cp:revision>7</cp:revision>
  <dc:subject/>
  <dc:title>Слайд 1</dc:title>
</cp:coreProperties>
</file>